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EE6-2585-4F99-BD86-71CBFFF9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CCE-7E50-4667-89C9-8367F385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909-D270-4E25-8228-A070AF7B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FA2-6CDA-4D00-9D6C-45F40127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892-1468-4055-B95D-9DD27D2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03A-A071-4CF5-9906-08C2E57A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4C3-64DA-44AD-8D6C-7C92F09D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D04-433A-4E4C-B183-3F984CDA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114-B4B9-48A9-9C78-94B9A1CB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219-7487-40F2-AE0D-6799BC8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EE5-C28B-4E87-A4FC-792D72D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18E-AB9C-4349-BF51-B8B2D89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D05E-50F1-4087-A3F7-260B7BE15F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" TargetMode="External"/><Relationship Id="rId2" Type="http://schemas.openxmlformats.org/officeDocument/2006/relationships/hyperlink" Target="http://www.auladeeconomia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99"/>
                </a:solidFill>
                <a:latin typeface="Arial"/>
              </a:rPr>
              <a:t>Líneas de Espera:</a:t>
            </a:r>
            <a:br>
              <a:rPr sz="4800"/>
            </a:br>
            <a:r>
              <a:rPr b="1" lang="es-ES" sz="4800" spc="-1" strike="noStrike">
                <a:solidFill>
                  <a:srgbClr val="000099"/>
                </a:solidFill>
                <a:latin typeface="Arial"/>
              </a:rPr>
              <a:t>Teoría de Colas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urso Métodos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f. Lic. Gabriel Le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-auladeeconom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41680" y="6051600"/>
            <a:ext cx="47023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7236000" y="3789360"/>
            <a:ext cx="173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37440" y="327024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763640" y="2565360"/>
            <a:ext cx="5616720" cy="259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042000" y="202896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908000" y="3068640"/>
            <a:ext cx="144000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292720" y="3068640"/>
            <a:ext cx="194472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stalación del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328920" y="3129480"/>
            <a:ext cx="174780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 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108000" y="3789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348000" y="378936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325280" y="327024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structuras típicas de sistemas de colas: una línea, un servido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6873840" y="378936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7640" y="327024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193840" y="2565360"/>
            <a:ext cx="4824360" cy="259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187800" y="202896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2338560" y="3068640"/>
            <a:ext cx="143964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5218200" y="3068640"/>
            <a:ext cx="165564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538200" y="378936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3778200" y="3789360"/>
            <a:ext cx="144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963480" y="327024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Estructuras típicas de sistemas de colas: una línea, múltiples servidores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6877080" y="301140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67640" y="35002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93840" y="2435400"/>
            <a:ext cx="4824360" cy="331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187800" y="191628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338560" y="3298680"/>
            <a:ext cx="143964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5218200" y="265104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538200" y="40194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3778200" y="4091040"/>
            <a:ext cx="144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7022160" y="25066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221440" y="373212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219640" y="4883040"/>
            <a:ext cx="1656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4427640" y="301140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4427640" y="517212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4427640" y="3011400"/>
            <a:ext cx="0" cy="216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6877080" y="517212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6877080" y="409104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7022160" y="35877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7022160" y="465300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structuras típicas de colas: varias líneas, múltiples servidor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6877080" y="301140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97800" y="35002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050920" y="2435400"/>
            <a:ext cx="4967280" cy="331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87800" y="191628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987640" y="2709720"/>
            <a:ext cx="144000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8200" y="265104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4427640" y="4076640"/>
            <a:ext cx="79200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022160" y="25066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221440" y="373212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219640" y="4883040"/>
            <a:ext cx="1656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4427640" y="301140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4427640" y="517212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6877080" y="517212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6877080" y="4091040"/>
            <a:ext cx="173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7022160" y="35877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7022160" y="465300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395280" y="407664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2195640" y="299736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2195640" y="5157720"/>
            <a:ext cx="79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 flipV="1">
            <a:off x="2195640" y="2997000"/>
            <a:ext cx="0" cy="21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2987640" y="3789360"/>
            <a:ext cx="1440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987640" y="4869000"/>
            <a:ext cx="1440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structuras típicas de colas: una línea, servidores secuencial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5435640" y="602280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21800" y="22068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le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74920" y="227808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205440" y="177336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de 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137120" y="2422440"/>
            <a:ext cx="9381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849840" y="3502080"/>
            <a:ext cx="15858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0200" y="2781360"/>
            <a:ext cx="2810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643280" y="307008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014160" y="55180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4643280" y="414972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4138560" y="4583160"/>
            <a:ext cx="9381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4643280" y="523080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3851280" y="5662440"/>
            <a:ext cx="158580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Costos de un sistem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sto de espera: Es el costo para el cliente al es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presenta el costo de oportunidad del tiempo perd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sistema con un bajo costo de espera es una fuente importante de competi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Costos de un sistem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sto de servicio: Es el costo de operación del servicio brind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más fácil de esti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objetivo de un sistema de colas es encontrar el sistema del costo total míni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s llegad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que transcurre entre dos llegadas sucesivas en el sistema de colas se llama tiempo entre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entre llegadas tiende a ser muy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número esperado de llegadas por unidad de tiempo se llama tasa media de llegadas (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s llegad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esperado entre llegadas es 1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r ejemplo, si la tasa media de llegadas es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20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tonces el tiempo esperado entre llegadas es 1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1/20 = 0.05 horas o 3 min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s llegad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demás es necesario estimar la distribución de probabilidad de los tiempos entre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neralmente se supone una distribución expon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o depende del comportamiento de las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Las colas…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s colas son frecuentes en nuestra vida cotidia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un b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un restaurante de comidas ráp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l matricular en la univers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s autos en un lava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– Distribución exponencia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147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forma algebraica de la distribución exponencial es: 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epresenta una cantidad expresada en de tiempo unidades de tiempo (horas, minut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187280" y="3205080"/>
                <a:ext cx="7417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emp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rvicio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– Distribución exponencia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"/>
          <p:cNvGrpSpPr/>
          <p:nvPr/>
        </p:nvGrpSpPr>
        <p:grpSpPr>
          <a:xfrm>
            <a:off x="1439640" y="1955880"/>
            <a:ext cx="6442920" cy="4282920"/>
            <a:chOff x="1439640" y="1955880"/>
            <a:chExt cx="6442920" cy="4282920"/>
          </a:xfrm>
        </p:grpSpPr>
        <p:sp>
          <p:nvSpPr>
            <p:cNvPr id="172" name="Line 4"/>
            <p:cNvSpPr/>
            <p:nvPr/>
          </p:nvSpPr>
          <p:spPr>
            <a:xfrm>
              <a:off x="1703520" y="2322360"/>
              <a:ext cx="0" cy="352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1703520" y="5851440"/>
              <a:ext cx="568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rc 7"/>
            <p:cNvSpPr/>
            <p:nvPr/>
          </p:nvSpPr>
          <p:spPr>
            <a:xfrm flipH="1" flipV="1">
              <a:off x="1764360" y="2637000"/>
              <a:ext cx="5121000" cy="2998800"/>
            </a:xfrm>
            <a:custGeom>
              <a:avLst/>
              <a:gdLst/>
              <a:ahLst/>
              <a:rect l="l" t="t" r="r" b="b"/>
              <a:pathLst>
                <a:path fill="none" w="21600" h="2174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49"/>
                    <a:pt x="21599" y="21698"/>
                    <a:pt x="21599" y="21748"/>
                  </a:cubicBezTo>
                </a:path>
                <a:path stroke="0" w="21600" h="2174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49"/>
                    <a:pt x="21599" y="21698"/>
                    <a:pt x="21599" y="2174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 flipH="1" flipV="1">
              <a:off x="3131640" y="4723920"/>
              <a:ext cx="11160" cy="1127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2714040" y="585144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6941520" y="584532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468800" y="5870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1439640" y="19558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– Distribución exponencia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distribución exponencial supone una mayor probabilidad para tiempos entre llegadas peque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general, se considera que las llegadas son aleato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última llegada no influye en la probabilidad de llegada de la sigu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- Distribución  de Poisso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una distribución discreta empleada con mucha frecuencia para describir el patrón de las llegadas a un sistema de co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ara tasas medias de llegadas pequeñas es asimétrica y se hace más simétrica y se aproxima a la binomial para tasas de llegadas al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- Distribución  de Poisso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u forma algebraica 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(k)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: probabilidad de k llegadas por unidad de ti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tasa media de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2,7182818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3274920" y="2157480"/>
                <a:ext cx="273708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Las llegadas - Distribución  de Poisson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>
            <a:off x="1692000" y="2322360"/>
            <a:ext cx="11160" cy="355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703520" y="5877000"/>
            <a:ext cx="56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5364000" y="58705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legadas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468800" y="58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1440000" y="195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33"/>
          <p:cNvSpPr/>
          <p:nvPr/>
        </p:nvSpPr>
        <p:spPr>
          <a:xfrm flipH="1">
            <a:off x="1907280" y="3068640"/>
            <a:ext cx="1800360" cy="2808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34"/>
          <p:cNvSpPr/>
          <p:nvPr/>
        </p:nvSpPr>
        <p:spPr>
          <a:xfrm>
            <a:off x="3708360" y="3071880"/>
            <a:ext cx="684360" cy="1581120"/>
          </a:xfrm>
          <a:custGeom>
            <a:avLst/>
            <a:gdLst/>
            <a:ahLst/>
            <a:rect l="l" t="t" r="r" b="b"/>
            <a:pathLst>
              <a:path fill="none" w="16582" h="21600">
                <a:moveTo>
                  <a:pt x="-1" y="0"/>
                </a:moveTo>
                <a:cubicBezTo>
                  <a:pt x="6404" y="0"/>
                  <a:pt x="12478" y="2841"/>
                  <a:pt x="16582" y="7758"/>
                </a:cubicBezTo>
              </a:path>
              <a:path stroke="0" w="16582" h="21600">
                <a:moveTo>
                  <a:pt x="-1" y="0"/>
                </a:moveTo>
                <a:cubicBezTo>
                  <a:pt x="6404" y="0"/>
                  <a:pt x="12478" y="2841"/>
                  <a:pt x="16582" y="775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5"/>
          <p:cNvSpPr/>
          <p:nvPr/>
        </p:nvSpPr>
        <p:spPr>
          <a:xfrm flipH="1" flipV="1" rot="720600">
            <a:off x="4316760" y="2631240"/>
            <a:ext cx="3176640" cy="2822760"/>
          </a:xfrm>
          <a:custGeom>
            <a:avLst/>
            <a:gdLst/>
            <a:ahLst/>
            <a:rect l="l" t="t" r="r" b="b"/>
            <a:pathLst>
              <a:path fill="none" w="19400" h="21600">
                <a:moveTo>
                  <a:pt x="-1" y="2"/>
                </a:moveTo>
                <a:cubicBezTo>
                  <a:pt x="111" y="0"/>
                  <a:pt x="222" y="-1"/>
                  <a:pt x="334" y="0"/>
                </a:cubicBezTo>
                <a:cubicBezTo>
                  <a:pt x="8316" y="0"/>
                  <a:pt x="15648" y="4402"/>
                  <a:pt x="19400" y="11448"/>
                </a:cubicBezTo>
              </a:path>
              <a:path stroke="0" w="19400" h="21600">
                <a:moveTo>
                  <a:pt x="-1" y="2"/>
                </a:moveTo>
                <a:cubicBezTo>
                  <a:pt x="111" y="0"/>
                  <a:pt x="222" y="-1"/>
                  <a:pt x="334" y="0"/>
                </a:cubicBezTo>
                <a:cubicBezTo>
                  <a:pt x="8316" y="0"/>
                  <a:pt x="15648" y="4402"/>
                  <a:pt x="19400" y="11448"/>
                </a:cubicBezTo>
                <a:lnTo>
                  <a:pt x="334" y="21600"/>
                </a:lnTo>
                <a:lnTo>
                  <a:pt x="-1" y="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2124000" y="4653000"/>
            <a:ext cx="432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5"/>
          <p:cNvSpPr/>
          <p:nvPr/>
        </p:nvSpPr>
        <p:spPr>
          <a:xfrm>
            <a:off x="2556000" y="3789360"/>
            <a:ext cx="43164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6"/>
          <p:cNvSpPr/>
          <p:nvPr/>
        </p:nvSpPr>
        <p:spPr>
          <a:xfrm>
            <a:off x="2987640" y="3357720"/>
            <a:ext cx="43200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7"/>
          <p:cNvSpPr/>
          <p:nvPr/>
        </p:nvSpPr>
        <p:spPr>
          <a:xfrm>
            <a:off x="3419640" y="3141720"/>
            <a:ext cx="431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8"/>
          <p:cNvSpPr/>
          <p:nvPr/>
        </p:nvSpPr>
        <p:spPr>
          <a:xfrm>
            <a:off x="3851280" y="3500280"/>
            <a:ext cx="4334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4284720" y="4292640"/>
            <a:ext cx="43164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0"/>
          <p:cNvSpPr/>
          <p:nvPr/>
        </p:nvSpPr>
        <p:spPr>
          <a:xfrm>
            <a:off x="4716360" y="4724280"/>
            <a:ext cx="432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5148360" y="5084640"/>
            <a:ext cx="4316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5580000" y="5373720"/>
            <a:ext cx="432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6012000" y="5516640"/>
            <a:ext cx="43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6443640" y="5661000"/>
            <a:ext cx="43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 col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número de clientes en la cola es el número de clientes que esperan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número de clientes en el sistema es el número de clientes que esperan en la cola más el número de clientes que actualmente reciben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 col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apacidad de la cola es el número máximo de clientes que pueden estar en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neralmente se supone que la cola es infi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unque también la cola puede ser fi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La col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disciplina de la cola se refiere al orden en que se seleccionan los miembros de la cola para comenzar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más común es PEPS: primero en llegar, primero en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uede darse: selección aleatoria, prioridades, UEPS, entre otr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servicio puede ser brindado por un servidor o por servidores múlt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de servicio varía de cliente a cl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esperado de servicio depende de la tasa media de servicio (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Las colas…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general, a nadie le gusta es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uando la paciencia llega a su límite, la gente se va a otro l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n embargo, un servicio muy rápido tendría un costo muy elev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necesario encontrar un balance adecu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esperado de servicio equivale a 1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r ejemplo, si la tasa media de servicio es de 25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tonces el tiempo esperado de servicio es 1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1/25 = 0.04 horas, o 2.4 min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necesario seleccionar una distribución de probabilidad para los tiempos de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ay dos distribuciones que representarían puntos extrem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distribución exponencial (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=med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empos de servicio constantes (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a distribución intermedia es la distribución Erl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a distribución posee un parámetro de forma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que determina su desviación estánd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2843280" y="4508640"/>
                <a:ext cx="3895560" cy="17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medi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1, entonces la distribución Erlang es igual a la expon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∞, entonces la distribución Erlang es igual a la distribución degenerada con tiempos cons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La forma de la distribución Erlang varía de acuerdo con 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El serv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703520" y="2322360"/>
            <a:ext cx="0" cy="35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703520" y="5851440"/>
            <a:ext cx="56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7"/>
          <p:cNvSpPr/>
          <p:nvPr/>
        </p:nvSpPr>
        <p:spPr>
          <a:xfrm flipH="1" flipV="1">
            <a:off x="1764360" y="2637000"/>
            <a:ext cx="5121000" cy="2998800"/>
          </a:xfrm>
          <a:custGeom>
            <a:avLst/>
            <a:gdLst/>
            <a:ahLst/>
            <a:rect l="l" t="t" r="r" b="b"/>
            <a:pathLst>
              <a:path fill="none" w="21600" h="2174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49"/>
                  <a:pt x="21599" y="21698"/>
                  <a:pt x="21599" y="21748"/>
                </a:cubicBezTo>
              </a:path>
              <a:path stroke="0" w="21600" h="2174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49"/>
                  <a:pt x="21599" y="21698"/>
                  <a:pt x="21599" y="2174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H="1" flipV="1">
            <a:off x="4128840" y="2491920"/>
            <a:ext cx="11160" cy="335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710880" y="5851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941520" y="58453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468800" y="58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1439640" y="1955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13"/>
          <p:cNvSpPr/>
          <p:nvPr/>
        </p:nvSpPr>
        <p:spPr>
          <a:xfrm flipH="1">
            <a:off x="1692360" y="3933720"/>
            <a:ext cx="1079280" cy="194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14"/>
          <p:cNvSpPr/>
          <p:nvPr/>
        </p:nvSpPr>
        <p:spPr>
          <a:xfrm>
            <a:off x="2771640" y="3933720"/>
            <a:ext cx="360360" cy="287280"/>
          </a:xfrm>
          <a:custGeom>
            <a:avLst/>
            <a:gdLst/>
            <a:ahLst/>
            <a:rect l="l" t="t" r="r" b="b"/>
            <a:pathLst>
              <a:path fill="none" w="17442" h="21600">
                <a:moveTo>
                  <a:pt x="-1" y="0"/>
                </a:moveTo>
                <a:cubicBezTo>
                  <a:pt x="6894" y="0"/>
                  <a:pt x="13375" y="3291"/>
                  <a:pt x="17442" y="8858"/>
                </a:cubicBezTo>
              </a:path>
              <a:path stroke="0" w="17442" h="21600">
                <a:moveTo>
                  <a:pt x="-1" y="0"/>
                </a:moveTo>
                <a:cubicBezTo>
                  <a:pt x="6894" y="0"/>
                  <a:pt x="13375" y="3291"/>
                  <a:pt x="17442" y="885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15"/>
          <p:cNvSpPr/>
          <p:nvPr/>
        </p:nvSpPr>
        <p:spPr>
          <a:xfrm flipH="1" flipV="1" rot="720600">
            <a:off x="3060000" y="4149720"/>
            <a:ext cx="4824360" cy="793440"/>
          </a:xfrm>
          <a:custGeom>
            <a:avLst/>
            <a:gdLst/>
            <a:ahLst/>
            <a:rect l="l" t="t" r="r" b="b"/>
            <a:pathLst>
              <a:path fill="none" w="19115" h="21600">
                <a:moveTo>
                  <a:pt x="-1" y="2"/>
                </a:moveTo>
                <a:cubicBezTo>
                  <a:pt x="111" y="0"/>
                  <a:pt x="222" y="-1"/>
                  <a:pt x="334" y="0"/>
                </a:cubicBezTo>
                <a:cubicBezTo>
                  <a:pt x="8104" y="0"/>
                  <a:pt x="15276" y="4173"/>
                  <a:pt x="19114" y="10930"/>
                </a:cubicBezTo>
              </a:path>
              <a:path stroke="0" w="19115" h="21600">
                <a:moveTo>
                  <a:pt x="-1" y="2"/>
                </a:moveTo>
                <a:cubicBezTo>
                  <a:pt x="111" y="0"/>
                  <a:pt x="222" y="-1"/>
                  <a:pt x="334" y="0"/>
                </a:cubicBezTo>
                <a:cubicBezTo>
                  <a:pt x="8104" y="0"/>
                  <a:pt x="15276" y="4173"/>
                  <a:pt x="19114" y="10930"/>
                </a:cubicBezTo>
                <a:lnTo>
                  <a:pt x="334" y="21600"/>
                </a:lnTo>
                <a:lnTo>
                  <a:pt x="-1" y="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8"/>
          <p:cNvSpPr/>
          <p:nvPr/>
        </p:nvSpPr>
        <p:spPr>
          <a:xfrm>
            <a:off x="3419640" y="3143160"/>
            <a:ext cx="936360" cy="2446560"/>
          </a:xfrm>
          <a:custGeom>
            <a:avLst/>
            <a:gdLst/>
            <a:ahLst/>
            <a:rect l="l" t="t" r="r" b="b"/>
            <a:pathLst>
              <a:path fill="none" w="17705" h="21600">
                <a:moveTo>
                  <a:pt x="-1" y="0"/>
                </a:moveTo>
                <a:cubicBezTo>
                  <a:pt x="7054" y="0"/>
                  <a:pt x="13664" y="3444"/>
                  <a:pt x="17705" y="9226"/>
                </a:cubicBezTo>
              </a:path>
              <a:path stroke="0" w="17705" h="21600">
                <a:moveTo>
                  <a:pt x="-1" y="0"/>
                </a:moveTo>
                <a:cubicBezTo>
                  <a:pt x="7054" y="0"/>
                  <a:pt x="13664" y="3444"/>
                  <a:pt x="17705" y="922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rc 19"/>
          <p:cNvSpPr/>
          <p:nvPr/>
        </p:nvSpPr>
        <p:spPr>
          <a:xfrm flipH="1">
            <a:off x="2916360" y="3147840"/>
            <a:ext cx="574560" cy="1360800"/>
          </a:xfrm>
          <a:custGeom>
            <a:avLst/>
            <a:gdLst/>
            <a:ahLst/>
            <a:rect l="l" t="t" r="r" b="b"/>
            <a:pathLst>
              <a:path fill="none" w="21600" h="21426">
                <a:moveTo>
                  <a:pt x="2737" y="0"/>
                </a:moveTo>
                <a:cubicBezTo>
                  <a:pt x="13521" y="1378"/>
                  <a:pt x="21600" y="10555"/>
                  <a:pt x="21600" y="21426"/>
                </a:cubicBezTo>
              </a:path>
              <a:path stroke="0" w="21600" h="21426">
                <a:moveTo>
                  <a:pt x="2737" y="0"/>
                </a:moveTo>
                <a:cubicBezTo>
                  <a:pt x="13521" y="1378"/>
                  <a:pt x="21600" y="10555"/>
                  <a:pt x="21600" y="21426"/>
                </a:cubicBezTo>
                <a:lnTo>
                  <a:pt x="0" y="21426"/>
                </a:lnTo>
                <a:lnTo>
                  <a:pt x="2737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rc 20"/>
          <p:cNvSpPr/>
          <p:nvPr/>
        </p:nvSpPr>
        <p:spPr>
          <a:xfrm flipV="1">
            <a:off x="1835280" y="4508640"/>
            <a:ext cx="1081080" cy="1296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rc 21"/>
          <p:cNvSpPr/>
          <p:nvPr/>
        </p:nvSpPr>
        <p:spPr>
          <a:xfrm flipH="1" flipV="1">
            <a:off x="4355280" y="2636280"/>
            <a:ext cx="2151000" cy="3168360"/>
          </a:xfrm>
          <a:custGeom>
            <a:avLst/>
            <a:gdLst/>
            <a:ahLst/>
            <a:rect l="l" t="t" r="r" b="b"/>
            <a:pathLst>
              <a:path fill="none" w="18970" h="21597">
                <a:moveTo>
                  <a:pt x="382" y="0"/>
                </a:moveTo>
                <a:cubicBezTo>
                  <a:pt x="8154" y="138"/>
                  <a:pt x="15252" y="4440"/>
                  <a:pt x="18969" y="11267"/>
                </a:cubicBezTo>
              </a:path>
              <a:path stroke="0" w="18970" h="21597">
                <a:moveTo>
                  <a:pt x="382" y="0"/>
                </a:moveTo>
                <a:cubicBezTo>
                  <a:pt x="8154" y="138"/>
                  <a:pt x="15252" y="4440"/>
                  <a:pt x="18969" y="11267"/>
                </a:cubicBezTo>
                <a:lnTo>
                  <a:pt x="0" y="21597"/>
                </a:lnTo>
                <a:lnTo>
                  <a:pt x="382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3737160" y="216864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3132000" y="4941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6372360" y="479736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4356000" y="393372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</a:t>
            </a:r>
            <a:br>
              <a:rPr sz="4000"/>
            </a:b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Distribución Erlang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600200"/>
          <a:ext cx="8002440" cy="4781520"/>
        </p:xfrm>
        <a:graphic>
          <a:graphicData uri="http://schemas.openxmlformats.org/drawingml/2006/table">
            <a:tbl>
              <a:tblPr/>
              <a:tblGrid>
                <a:gridCol w="4002120"/>
                <a:gridCol w="400032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iación estánd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 </a:t>
                      </a:r>
                      <a:r>
                        <a:rPr b="0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 </a:t>
                      </a:r>
                      <a:r>
                        <a:rPr b="0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ang, cualquier </a:t>
                      </a: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0" name="Object 41"/>
              <p:cNvSpPr txBox="1"/>
              <p:nvPr/>
            </p:nvSpPr>
            <p:spPr>
              <a:xfrm>
                <a:off x="5580000" y="3429000"/>
                <a:ext cx="179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di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49"/>
              <p:cNvSpPr txBox="1"/>
              <p:nvPr/>
            </p:nvSpPr>
            <p:spPr>
              <a:xfrm>
                <a:off x="5543640" y="4653000"/>
                <a:ext cx="1765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di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5513400" y="5805360"/>
                <a:ext cx="1795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di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Sistemas de colas: Etiquetas para distintos modelo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otación de Kendall: 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de tiempos entre lle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de tiempos de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expon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degene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s-E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distribución Erl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: Número de serv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Estado del sistem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principio el sistema está en un estado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supone que el sistema de colas llega a una condición de estado estable (nivel normal de oper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xisten otras condiciones anormales (horas pico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 que interesa es el estado es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Desempeño del sistema de cola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ara evaluar el desempeño se busca conocer dos factores princip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número de clientes que esperan en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tiempo que los clientes esperan en la cola y en el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úmero esperado de clientes en la cola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úmero esperado de clientes en el sistema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empo esperado de espera en la cola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empo esperado de espera en el sistema </a:t>
            </a: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Teorí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a cola es una línea de esp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eoría de colas es un conjunto de modelos matemáticos que describen sistemas de líneas de espera partic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objetivo es encontrar el estado estable del sistema y determinar una capacidad de servicio apropi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fórmulas generale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3046320" y="1484280"/>
                <a:ext cx="3110040" cy="522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ejempl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uponga una estación de gasolina a la cual llegan en promedio 45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tiene capacidad para atender en promedio a 60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sabe que los clientes esperan en promedio 3 minutos en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ejempl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asa media de llegadas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es 45 clientes por hora o 45/60 = 0.75 clientes por min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asa media de servicio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es 60 clientes por hora o 60/60 = 1 cliente por min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ejempl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971640" y="1981080"/>
                <a:ext cx="7056360" cy="38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edidas del desempeño del sistema de colas: ejercici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uponga un restaurant de comidas rápidas al cual llegan en promedio 100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tiene capacidad para atender en promedio a 150 cliente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sabe que los clientes esperan en promedio 2 minutos en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lcule las medidas de desempeño del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Probabilidades como medidas del desempeñ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enefic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miten evaluar e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mite establecer me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ot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: probabilidad de tener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clientes en el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1" i="1" lang="es-E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: probabilidad de que un cliente no espere en el sistema más de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s-E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h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Factor de utilización del sistem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ada la tasa media de llegadas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 la tasa media de servicio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se define el factor de utilización del sistema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neralmente se requiere que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u fórmula, con un servidor y con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servidores, respectivamente, 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979640" y="4941720"/>
                <a:ext cx="5040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s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Factor de utilización del sistema - ejemplo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 base en los datos del ejemplo anterior,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0.75,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factor de utilización del sistema si se mantuviera un servidor 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0.75/1 = 0.75 = 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 dos servidores (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2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0.75/(2*1) = 0.75/2 = 37,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odelos de una cola y un servido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1: Un servidor con llegadas de Poisson y tiempos de servicio expon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1: Un servidor con tiempos entre llegadas exponenciales y una distribución general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1: Un servidor con tiempos entre llegadas exponenciales y una distribución degenerada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1: Un servidor con tiempos entre llegadas exponenciales y una distribución Erlang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M/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0" y="1484280"/>
                <a:ext cx="9144000" cy="511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Teoría de cola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xisten muchos sistemas de colas disti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lgunos modelos son muy espe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tros se ajustan a modelos más gene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estudiarán ahora algunos modelos com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tros se pueden tratar a través de la simul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M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lavacar puede atender un auto cada 5 minutos y la tasa media de llegadas es de 9 autos por h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M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demás la probabilidad de tener 0 clientes en el sistema, la probabilidad de tener una cola de más de 3 clientes y la probabilidad de esperar más de 30 min. en la cola y en el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M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468360" y="873000"/>
                <a:ext cx="8351640" cy="587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&gt;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M/1: ejerc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un supermercado llegan en promedio 80 clientes por hora que son atendidos entre sus 5 ca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caja puede atender en promedio a un cliente cada 3 min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M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la probabilidad de tener 2 clientes en el sistema, la probabilidad de tener una cola de más de 4 clientes y la probabilidad de esperar más de 10 min. en la 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G/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971640" y="1486080"/>
                <a:ext cx="7345440" cy="48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G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lavacar puede atender un auto cada 5 min. y la tasa media de llegadas es de 9 autos/hora,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2 m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G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demás la probabilidad de tener 0 clientes en el sistema y la probabilidad de que un cliente tenga que esperar por el servic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G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82560" y="1484280"/>
                <a:ext cx="7561440" cy="493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G/1: ejerc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un supermercado llegan en promedio 80 clientes por hora que son atendidos entre sus 5 ca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caja puede atender en promedio a un cliente cada 3 minutos. Suponga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5 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G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la probabilidad de tener 0 clientes en el sistema y la probabilidad de que un cliente tenga que esperar por el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D/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1403280" y="1773360"/>
                <a:ext cx="6193080" cy="39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D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lavacar puede atender un auto cada 5 m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asa media de llegadas es de 9 autos/h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D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D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900000" y="1587600"/>
                <a:ext cx="7704360" cy="47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sistema de colas puede dividirse en dos componentes princip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instalación d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s clientes o llegadas vienen en forma individual para recibir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D/1: ejerc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 un supermercado llegan en promedio 80 clientes por hora que son atendidos entre sus 5 caj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da caja puede atender en promedio a un cliente cada 3 minuto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D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E</a:t>
            </a:r>
            <a:r>
              <a:rPr b="0" lang="es-ES" sz="44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/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826920" y="1593720"/>
                <a:ext cx="7274160" cy="44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E</a:t>
            </a:r>
            <a:r>
              <a:rPr b="0" lang="es-ES" sz="44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 lavacar puede atender un auto cada 5 m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 tasa media de llegadas es de 9 autos/hora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onga 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3.5 min (aprox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E</a:t>
            </a:r>
            <a:r>
              <a:rPr b="0" i="1" lang="es-E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E</a:t>
            </a:r>
            <a:r>
              <a:rPr b="0" lang="es-ES" sz="44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/1: ejempl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828720" y="1717560"/>
                <a:ext cx="806436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7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iente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0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 M/E</a:t>
            </a:r>
            <a:r>
              <a:rPr b="0" i="1" lang="es-ES" sz="44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/1: ejercici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 un supermercado llegan en promedio 80 clientes por hora que son atendidos entre sus 5 caj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da caja puede atender en promedio a un cliente cada 3 minutos. Suponga k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btenga las medidas de desempeño de acuerdo con el modelo M/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E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/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Modelos de un servidor: Ejercicio: complete el cuadro ejemplo lavaca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50920" y="1600200"/>
          <a:ext cx="8642160" cy="499752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/M/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/G/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/D/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/E</a:t>
                      </a:r>
                      <a:r>
                        <a:rPr b="0" i="1" lang="es-E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odelos de varios servidor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rvidores con llegadas de Poisson y tiempos de servicio expon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rvidores con tiempos entre llegadas exponenciales y una distribución degenerada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s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rvidores con tiempos entre llegadas exponenciales y una distribución Erlang de tiempos de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/M/s, una línea de esper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0" y="1052640"/>
                <a:ext cx="9144000" cy="55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sμ</m:t>
                                    </m:r>
                                  </m:num>
                                  <m:den>
                                    <m:r>
                                      <m:t xml:space="preserve">sμ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λμ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t xml:space="preserve">s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!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sμ</m:t>
                                </m:r>
                              </m:num>
                              <m:den>
                                <m:r>
                                  <m:t xml:space="preserve">sμ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M/M/s, una línea de esper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1476360" y="1284120"/>
                <a:ext cx="6048360" cy="516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ρ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Arial"/>
              </a:rPr>
              <a:t>Análisis económico de líneas de esper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1506600" y="2043000"/>
            <a:ext cx="0" cy="390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1506600" y="5945040"/>
            <a:ext cx="5316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 flipV="1">
            <a:off x="1506600" y="4481280"/>
            <a:ext cx="4919760" cy="146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7"/>
          <p:cNvSpPr/>
          <p:nvPr/>
        </p:nvSpPr>
        <p:spPr>
          <a:xfrm rot="10800000">
            <a:off x="1829880" y="2774520"/>
            <a:ext cx="4435560" cy="2764080"/>
          </a:xfrm>
          <a:custGeom>
            <a:avLst/>
            <a:gdLst/>
            <a:ahLst/>
            <a:rect l="l" t="t" r="r" b="b"/>
            <a:pathLst>
              <a:path fill="none" w="21392" h="21600">
                <a:moveTo>
                  <a:pt x="-1" y="0"/>
                </a:moveTo>
                <a:cubicBezTo>
                  <a:pt x="10775" y="0"/>
                  <a:pt x="19902" y="7941"/>
                  <a:pt x="21392" y="18612"/>
                </a:cubicBezTo>
              </a:path>
              <a:path stroke="0" w="21392" h="21600">
                <a:moveTo>
                  <a:pt x="-1" y="0"/>
                </a:moveTo>
                <a:cubicBezTo>
                  <a:pt x="10775" y="0"/>
                  <a:pt x="19902" y="7941"/>
                  <a:pt x="21392" y="1861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8"/>
          <p:cNvSpPr/>
          <p:nvPr/>
        </p:nvSpPr>
        <p:spPr>
          <a:xfrm rot="9461400">
            <a:off x="2069640" y="1628280"/>
            <a:ext cx="4233960" cy="2318040"/>
          </a:xfrm>
          <a:custGeom>
            <a:avLst/>
            <a:gdLst/>
            <a:ahLst/>
            <a:rect l="l" t="t" r="r" b="b"/>
            <a:pathLst>
              <a:path fill="none" w="21365" h="21579">
                <a:moveTo>
                  <a:pt x="944" y="-1"/>
                </a:moveTo>
                <a:cubicBezTo>
                  <a:pt x="11279" y="451"/>
                  <a:pt x="19843" y="8168"/>
                  <a:pt x="21365" y="18401"/>
                </a:cubicBezTo>
              </a:path>
              <a:path stroke="0" w="21365" h="21579">
                <a:moveTo>
                  <a:pt x="944" y="-1"/>
                </a:moveTo>
                <a:cubicBezTo>
                  <a:pt x="11279" y="451"/>
                  <a:pt x="19843" y="8168"/>
                  <a:pt x="21365" y="18401"/>
                </a:cubicBezTo>
                <a:lnTo>
                  <a:pt x="0" y="21579"/>
                </a:lnTo>
                <a:lnTo>
                  <a:pt x="944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4046400" y="3587760"/>
            <a:ext cx="0" cy="235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973080" y="1666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6297840" y="59007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00760" y="5869080"/>
            <a:ext cx="16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óp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6197760" y="529272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e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6318360" y="421164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l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6353280" y="28908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s clientes o llegadas pueden s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utomóv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áquinas que requieren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tre muchos otros tipos de artícu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99"/>
                </a:solidFill>
                <a:latin typeface="Arial"/>
              </a:rPr>
              <a:t>Si desea más información visite </a:t>
            </a:r>
            <a:r>
              <a:rPr b="0" lang="es-CR" sz="4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www.auladeeconomia.com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Le invitamos a leer nuestros artículos y matricular nuestros 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logo-auladeeconom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41680" y="6051600"/>
            <a:ext cx="47023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 cuando el cliente llega no hay nadie en la cola, pasa de una vez a recibir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i no, se une a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importante señalar que la cola no incluye a quien está recibiendo el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ttp://www.auladeeconomi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99"/>
                </a:solidFill>
                <a:latin typeface="Arial"/>
              </a:rPr>
              <a:t>Sistemas de colas: modelo básico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s llegadas van a la instalación del servicio de acuerdo con la disciplina de la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neralmente ésta es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primero en llegar, primero en ser serv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o pueden haber otras reglas o colas con prio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1:02:36Z</dcterms:created>
  <dc:creator>Gabriel Leandro</dc:creator>
  <dc:description/>
  <dc:language>en-US</dc:language>
  <cp:lastModifiedBy>sena</cp:lastModifiedBy>
  <dcterms:modified xsi:type="dcterms:W3CDTF">2010-11-08T22:24:12Z</dcterms:modified>
  <cp:revision>83</cp:revision>
  <dc:subject/>
  <dc:title>Líneas de Espera: Teoría de Colas</dc:title>
</cp:coreProperties>
</file>